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93240" y="767880"/>
            <a:ext cx="51166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ABED-C89E-462F-B8E3-33847089D0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21C3-82E6-47AF-9E72-8757BAE1DF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49FF-2FC7-4CC0-AE4A-0F8532E24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8B9B-76C2-453E-BE32-D1196001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FE7A-145C-41E9-80DB-7CEE0E5A1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4BB8-621D-4CA9-AA73-8A52844E7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6AB6-1D0E-4011-8F47-69C28C70A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B938-64F8-42C3-9EA8-2B3AFBD2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3D7A-0852-4776-8E19-959183CD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27B0-16B2-48AD-B780-32F4BE60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8C8F-6A1B-4162-A9DB-0FEEBA46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83AF-984E-4D13-961B-3594FD2D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8CF8-7494-4A5A-A57B-007D3C9C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6BE9-C42F-4488-8F33-EE6441DF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CA8C-0D09-4E38-8633-D11A09E5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598B-E532-4441-A590-308E2549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F434-AD71-4E17-AC48-2832857C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42D4-0285-4BB8-86BB-E8789185F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E2A5-534B-46B5-8D99-58F9557D8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CB4A-5342-4B37-838B-C42569BF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9318-C9E9-4DF0-BFC7-3AE20E52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8904-D136-49F7-A7CF-D86F68DA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CD95-D311-4CA7-9E1C-7B3128CE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8FD8-9BE8-4913-83DE-08D9E6CB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AF27-3DCE-4DFD-ADC5-0251926C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192F-4F1A-42D2-AA95-DD58814F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4332-D1B0-4754-AA83-208AC0A75C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" descr="EBF-FINAL_noWhiteBorder.GIF"/>
          <p:cNvPicPr/>
          <p:nvPr/>
        </p:nvPicPr>
        <p:blipFill>
          <a:blip r:embed="rId4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5D92-4B0E-41D5-BBB0-6497C828E4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Internet Financial Top-level Domains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Associates Meeting 8 December 2011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e46c0a"/>
                </a:solidFill>
                <a:latin typeface="Calibri"/>
              </a:rPr>
              <a:t>Background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Internet Corporation fro Assigned Names and Numbers (ICANN) controls the establishment of valid Top Level Domains names (TLDs) such as “.com” or “.org”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No availabilities. New generic Top Level Domains (gTLDs) names program launched by ICANN : “anyone can apply for anything” (.bank ; .banque, …)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Applications open from 12 January to 12 April 2012. Evaluation afterwards (9–20 months). New gTLDs will likely be delegated in early 2013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Raises concerns on Fraud and Intellectual property 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e46c0a"/>
                </a:solidFill>
                <a:latin typeface="Calibri"/>
              </a:rPr>
              <a:t>Background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564000" y="1916280"/>
            <a:ext cx="201600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ICAN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635280" y="3284640"/>
            <a:ext cx="194472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476360" y="3284640"/>
            <a:ext cx="194328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5796000" y="3284640"/>
            <a:ext cx="194472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684360" y="4653000"/>
            <a:ext cx="129528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2124000" y="4653000"/>
            <a:ext cx="129564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3564000" y="4653000"/>
            <a:ext cx="129528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611280" y="5732640"/>
            <a:ext cx="1368360" cy="4330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1835280" y="6165720"/>
            <a:ext cx="1368360" cy="43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Oval 12"/>
          <p:cNvSpPr/>
          <p:nvPr/>
        </p:nvSpPr>
        <p:spPr>
          <a:xfrm>
            <a:off x="2050920" y="5589720"/>
            <a:ext cx="1368720" cy="4316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traight Connector 23"/>
          <p:cNvSpPr/>
          <p:nvPr/>
        </p:nvSpPr>
        <p:spPr>
          <a:xfrm>
            <a:off x="4211640" y="285264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Straight Connector 25"/>
          <p:cNvCxnSpPr>
            <a:endCxn id="103" idx="0"/>
          </p:cNvCxnSpPr>
          <p:nvPr/>
        </p:nvCxnSpPr>
        <p:spPr>
          <a:xfrm flipV="1" rot="10800000">
            <a:off x="2447280" y="2203920"/>
            <a:ext cx="1116720" cy="108036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13" name="Straight Connector 27"/>
          <p:cNvCxnSpPr>
            <a:endCxn id="104" idx="0"/>
          </p:cNvCxnSpPr>
          <p:nvPr/>
        </p:nvCxnSpPr>
        <p:spPr>
          <a:xfrm>
            <a:off x="5579640" y="2276640"/>
            <a:ext cx="1188360" cy="100872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114" name="Straight Connector 30"/>
          <p:cNvSpPr/>
          <p:nvPr/>
        </p:nvSpPr>
        <p:spPr>
          <a:xfrm>
            <a:off x="1619280" y="422100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traight Connector 34"/>
          <p:cNvSpPr/>
          <p:nvPr/>
        </p:nvSpPr>
        <p:spPr>
          <a:xfrm>
            <a:off x="2771640" y="4149720"/>
            <a:ext cx="0" cy="503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Straight Connector 36"/>
          <p:cNvCxnSpPr/>
          <p:nvPr/>
        </p:nvCxnSpPr>
        <p:spPr>
          <a:xfrm>
            <a:off x="3276720" y="4221000"/>
            <a:ext cx="791280" cy="432720"/>
          </a:xfrm>
          <a:prstGeom prst="bentConnector3">
            <a:avLst>
              <a:gd name="adj1" fmla="val 4997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17" name="Straight Arrow Connector 43"/>
          <p:cNvCxnSpPr/>
          <p:nvPr/>
        </p:nvCxnSpPr>
        <p:spPr>
          <a:xfrm flipV="1">
            <a:off x="2555640" y="5228640"/>
            <a:ext cx="108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45"/>
          <p:cNvCxnSpPr>
            <a:stCxn id="109" idx="1"/>
          </p:cNvCxnSpPr>
          <p:nvPr/>
        </p:nvCxnSpPr>
        <p:spPr>
          <a:xfrm flipH="1" flipV="1">
            <a:off x="1834920" y="5229000"/>
            <a:ext cx="20232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9" name="Straight Arrow Connector 47"/>
          <p:cNvCxnSpPr>
            <a:stCxn id="108" idx="0"/>
          </p:cNvCxnSpPr>
          <p:nvPr/>
        </p:nvCxnSpPr>
        <p:spPr>
          <a:xfrm flipH="1" flipV="1">
            <a:off x="1115640" y="5229000"/>
            <a:ext cx="18000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Actions  undertaken </a:t>
            </a:r>
            <a:br>
              <a:rPr sz="3200"/>
            </a:b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by the Industry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IBfed and EBF tried to convince ICANN to refrain from proceeding with new gTLD such as “.bank” or at least  to create a process with additional safeguards. In response, ICANN amended  its guidebook acknowledging that financial Top-level domains will require higher level of security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ABA/BITS and ?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WG on Security Standards (minimum evaluation criteria that ICANN evaluators should use to judge applicants)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(+ VeriSign) NewCo </a:t>
            </a:r>
            <a:r>
              <a:rPr b="0" lang="nl-BE" sz="2400" spc="-1" strike="noStrike">
                <a:solidFill>
                  <a:srgbClr val="1f497d"/>
                </a:solidFill>
                <a:latin typeface="Calibri"/>
              </a:rPr>
              <a:t>fTLD Registry Services, LLC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o apply as registry operator for “.</a:t>
            </a:r>
            <a:r>
              <a:rPr b="0" lang="nl-BE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bank”  (March 2012) </a:t>
            </a:r>
            <a:r>
              <a:rPr b="0" lang="en-US" sz="24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Raising awareness (GAC, Basle Cttee, European Commission, …) 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Next steps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EBF endorsement of the minimum security standards ?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Elevated security standards are primarily policies on how the Registry Operator (wholesaler of domain names) and their Registrars (retailer of domain names) must act and operat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Policie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ypes of nam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Eligibility requirement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Validation prior activ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100 % accurate registrant inform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ompliance  : Registry agreement with ICANN/ Registry-Registrar agreements, registration agreement etc…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Participation in the ABA/BITS NewCo ?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Application for other generic Top Level domains names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(national level, cross-countries ?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Continue to raise awarenes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f497d"/>
                </a:solidFill>
                <a:latin typeface="Calibri"/>
              </a:rPr>
              <a:t>ICANN Governmental Advisory Committee (GAC) Early Warning system</a:t>
            </a:r>
            <a:endParaRPr b="0" lang="en-US" sz="1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1:11:41Z</dcterms:created>
  <dc:creator>Tatyana Ferragallo</dc:creator>
  <dc:description/>
  <dc:language>en-US</dc:language>
  <cp:lastModifiedBy>Dominique Buggenhout</cp:lastModifiedBy>
  <dcterms:modified xsi:type="dcterms:W3CDTF">2011-12-08T12:19:44Z</dcterms:modified>
  <cp:revision>177</cp:revision>
  <dc:subject/>
  <dc:title>Slide 1</dc:title>
</cp:coreProperties>
</file>